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916-1C20-48DB-8868-212EDCE9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30B-C2E4-49BE-B355-5009B110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64D-6E30-4347-A06C-2D118584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61A-B2CF-455E-BABE-C2F2ED1E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5759-D05D-4079-9F3B-2D4CB884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EACA-5D1D-4ABA-AB70-D15146C3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660D-2E1E-4A5C-AAB4-7145A0A3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7DD3-E3FD-402C-AB4D-CBFC48D7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CF21-3A21-41AB-B36C-39BEE13D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83A5-24FD-4FA5-B742-68696CA5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7B0E-6A99-4B33-98D3-1050F792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26C-6120-436E-A456-9759F382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004D-B57B-4F24-85CE-42AA2823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4034-E7B8-450A-855A-8F88C11E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0536-B609-439D-B379-C63C9073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363C-C4A9-4A21-91C5-D3C5BFD2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1FD5-06D2-472C-A446-0C7B3C4B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860AA-03F9-4CC7-A143-B21ECC5B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5C696-1591-46E4-887B-5743330B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29F00-928C-4D80-939E-FFF552B7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310D9-EF0F-419E-8451-FA8AB699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E5375-4FC5-447C-A223-71947794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055-8BDC-46CA-9B6D-AF640587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A39E7-7AED-410C-9B08-547DFD6B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6B9E6-78C4-445B-B90B-8CEF4EE2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95DC2-DB3A-442F-AFA2-B8A6B643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57123-08F0-4CA6-A7E9-44CF8B41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814B4-385C-473E-9002-0A6DCAA6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044CC-EA31-4AA9-933C-BE5E4C95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372C3-4B61-4652-A59C-34A3F83F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1C6C-EF29-4863-B8AF-DBB178D3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C50D-254F-452E-93B9-6430F314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02394-F99D-4136-A347-45C3465E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FC5-767B-409E-B11C-5515A462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E41E9-BB33-45B0-B436-1C48E1B8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B0F9C-DA10-4F2C-9F58-D8C8C9D3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55DC6-8744-4F81-B97E-DD64B4A1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DA95B-A52F-4CB0-8E41-0F1885C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6B44-9B8F-4E4E-8A46-4E4F084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4304D-5029-44C6-A951-F1CA80B0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E5BF8-98AA-4176-8A2A-9C231D0A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466A3-3F14-49BB-9FEC-3ABF3FD3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DB023-5F76-48E5-9CCC-E96E2A3F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F9E-F91C-4106-9E6B-E87C18FD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578-5D66-49BB-A1AA-EE3382B6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8F7-BC24-4229-A06C-8AE0F5D2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4E2-106C-4EC4-98BD-BEB70D8F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514-933B-41A3-980F-B8E4F941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40B1-BA6C-4132-A3F8-50F5908D18D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D541-98B4-4931-9488-E3A383554A9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A502-4C5D-42DF-A60B-A8ADEA3A393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9C02-2843-4846-A70A-140EAB2DD68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rebuchet MS"/>
              </a:rPr>
              <a:t>«Герой моей семьи»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9ea"/>
                </a:solidFill>
                <a:latin typeface="Georgia"/>
              </a:rPr>
              <a:t>Есть память, которой не будет конца…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Автор: Батманова Яна, 4 клас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уководитель: Палехова Людмила Сергеевна, директор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БОУ «НШДС» д.Новикбож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2024 г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Лента лицом вверх 5"/>
          <p:cNvSpPr/>
          <p:nvPr/>
        </p:nvSpPr>
        <p:spPr>
          <a:xfrm rot="20013600">
            <a:off x="4939920" y="3952800"/>
            <a:ext cx="3851280" cy="1192320"/>
          </a:xfrm>
          <a:custGeom>
            <a:avLst/>
            <a:gdLst>
              <a:gd name="textAreaLeft" fmla="*/ 962640 w 3851280"/>
              <a:gd name="textAreaRight" fmla="*/ 2888640 w 3851280"/>
              <a:gd name="textAreaTop" fmla="*/ 0 h 1192320"/>
              <a:gd name="textAreaBottom" fmla="*/ 993600 h 11923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Афганистане были и в Чечн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остые наши русские ребята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Не понаслышке знают о войн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О крови, смерти и о той цен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Что их отцы платили в 45-ом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егодня в  школу по утрам спешим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Учиться, жить, и навсегда запомнить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егодня здесь смеются малыш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А где-то воин совершает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ПОДВИГ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Е.А. Николаева</a:t>
            </a:r>
            <a:br>
              <a:rPr sz="2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18" name="5-конечная звезда 2"/>
          <p:cNvGrpSpPr/>
          <p:nvPr/>
        </p:nvGrpSpPr>
        <p:grpSpPr>
          <a:xfrm>
            <a:off x="5102280" y="2597040"/>
            <a:ext cx="2494080" cy="2432160"/>
            <a:chOff x="5102280" y="2597040"/>
            <a:chExt cx="2494080" cy="2432160"/>
          </a:xfrm>
        </p:grpSpPr>
        <p:pic>
          <p:nvPicPr>
            <p:cNvPr id="219" name="5-конечная звезда 2" descr=""/>
            <p:cNvPicPr/>
            <p:nvPr/>
          </p:nvPicPr>
          <p:blipFill>
            <a:blip r:embed="rId2"/>
            <a:stretch/>
          </p:blipFill>
          <p:spPr>
            <a:xfrm>
              <a:off x="5102280" y="2597040"/>
              <a:ext cx="249408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 rot="20009400">
              <a:off x="5933880" y="3351240"/>
              <a:ext cx="10015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фганская война – это результат политических игр и политических амбиций, но никто не умалит героизма наших воинов-интернационалистов там, в афганском аду. Итог необъявленной войны  - более 17 тысяч погибших советских солдат. И об этой войне мы должны знать и помнить.  Наш гражданский долг – помнить и чтить память участников афганской войн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бы хотелось рассказать о своём дедушке - Хозяинове Василии Юрьевич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6e9ea"/>
                </a:solidFill>
                <a:latin typeface="Times New Roman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62360" y="609480"/>
            <a:ext cx="317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YS Text"/>
              </a:rPr>
              <a:t>Хозяинов Василий Юрьевич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52840" y="2011320"/>
            <a:ext cx="33829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775800"/>
            <a:ext cx="53341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e9ea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d6e9ea"/>
                </a:solidFill>
                <a:latin typeface="Times New Roman"/>
              </a:rPr>
              <a:t>-</a:t>
            </a:r>
            <a:r>
              <a:rPr b="0" lang="ru-RU" sz="2700" spc="-1" strike="noStrike">
                <a:solidFill>
                  <a:srgbClr val="1a1a1a"/>
                </a:solidFill>
                <a:latin typeface="YS Text"/>
              </a:rPr>
              <a:t>   Дед родился 18 апреля 1969 г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a1a1a"/>
                </a:solidFill>
                <a:latin typeface="YS Text"/>
              </a:rPr>
              <a:t>   </a:t>
            </a:r>
            <a:r>
              <a:rPr b="0" lang="ru-RU" sz="2700" spc="-1" strike="noStrike">
                <a:solidFill>
                  <a:srgbClr val="1a1a1a"/>
                </a:solidFill>
                <a:latin typeface="YS Text"/>
              </a:rPr>
              <a:t>В армию призван 3 мая 1987г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a1a1a"/>
                </a:solidFill>
                <a:latin typeface="YS Text"/>
              </a:rPr>
              <a:t>   </a:t>
            </a:r>
            <a:r>
              <a:rPr b="0" lang="ru-RU" sz="2700" spc="-1" strike="noStrike">
                <a:solidFill>
                  <a:srgbClr val="1a1a1a"/>
                </a:solidFill>
                <a:latin typeface="YS Text"/>
              </a:rPr>
              <a:t>В Узбекистане г. Фергане был в учебном центре автоматчиком. В октябре 1987г. в составе советских войск вылетели в ДРА. В Афганистане был принят пулемётчиком ПКМ 6,72 и до 19 февраля 1987 г служил пулемётчиком. Ездили на боевые, был на Хосте 4 месяца, а в основном колонны сопровождал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5" descr="D:\Данные\Рабочий стол\Mojnl1wB-YI.jpg"/>
          <p:cNvPicPr/>
          <p:nvPr/>
        </p:nvPicPr>
        <p:blipFill>
          <a:blip r:embed="rId1"/>
          <a:stretch/>
        </p:blipFill>
        <p:spPr>
          <a:xfrm>
            <a:off x="5334120" y="1523880"/>
            <a:ext cx="3179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352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a1a1a"/>
                </a:solidFill>
                <a:latin typeface="YS Text"/>
              </a:rPr>
              <a:t>   </a:t>
            </a:r>
            <a:r>
              <a:rPr b="0" lang="ru-RU" sz="2800" spc="-1" strike="noStrike">
                <a:solidFill>
                  <a:srgbClr val="1a1a1a"/>
                </a:solidFill>
                <a:latin typeface="YS Text"/>
              </a:rPr>
              <a:t>В Хосте получил медаль за отвагу, а также имеет медаль 70 лет ВС СССР, Воину интернационалисту от благодарного афганского народа, Грамота Президиума Верховного Совета СССР. Служил в воздушно-десантных войсках пулемётчиком. Часть стояла возле Кабула в/ч пп 48059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a1a1a"/>
                </a:solidFill>
                <a:latin typeface="YS Text"/>
              </a:rPr>
              <a:t>   </a:t>
            </a:r>
            <a:r>
              <a:rPr b="0" lang="ru-RU" sz="2800" spc="-1" strike="noStrike">
                <a:solidFill>
                  <a:srgbClr val="1a1a1a"/>
                </a:solidFill>
                <a:latin typeface="YS Text"/>
              </a:rPr>
              <a:t>Ещё имеет 5 льготных медал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Я помню своего героя, я горжусь!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3520" y="7617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Рисунок 3" descr="logotip.png"/>
          <p:cNvPicPr/>
          <p:nvPr/>
        </p:nvPicPr>
        <p:blipFill>
          <a:blip r:embed="rId1"/>
          <a:stretch/>
        </p:blipFill>
        <p:spPr>
          <a:xfrm>
            <a:off x="5410080" y="4343400"/>
            <a:ext cx="2895840" cy="1552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D:\Данные\Рабочий стол\oOdkfGMFDfU.jpg"/>
          <p:cNvPicPr/>
          <p:nvPr/>
        </p:nvPicPr>
        <p:blipFill>
          <a:blip r:embed="rId2"/>
          <a:stretch/>
        </p:blipFill>
        <p:spPr>
          <a:xfrm>
            <a:off x="533520" y="1219320"/>
            <a:ext cx="48765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6781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e9ea"/>
                </a:solidFill>
                <a:latin typeface="Trebuchet MS"/>
              </a:rPr>
              <a:t>«Только о тех, кто уже не придёт никогда,</a:t>
            </a:r>
            <a:br>
              <a:rPr sz="3600"/>
            </a:br>
            <a:r>
              <a:rPr b="0" lang="ru-RU" sz="3600" spc="-1" strike="noStrike">
                <a:solidFill>
                  <a:srgbClr val="d6e9ea"/>
                </a:solidFill>
                <a:latin typeface="Trebuchet MS"/>
              </a:rPr>
              <a:t>Заклинаю вас,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ОМНИТЕ!...</a:t>
            </a:r>
            <a:r>
              <a:rPr b="0" lang="ru-RU" sz="3600" spc="-1" strike="noStrike">
                <a:solidFill>
                  <a:srgbClr val="d6e9ea"/>
                </a:solidFill>
                <a:latin typeface="Trebuchet MS"/>
              </a:rPr>
              <a:t>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  <p:grpSp>
        <p:nvGrpSpPr>
          <p:cNvPr id="235" name="Лента лицом вниз 5"/>
          <p:cNvGrpSpPr/>
          <p:nvPr/>
        </p:nvGrpSpPr>
        <p:grpSpPr>
          <a:xfrm>
            <a:off x="1901880" y="3591000"/>
            <a:ext cx="6254640" cy="2266920"/>
            <a:chOff x="1901880" y="3591000"/>
            <a:chExt cx="6254640" cy="2266920"/>
          </a:xfrm>
        </p:grpSpPr>
        <p:pic>
          <p:nvPicPr>
            <p:cNvPr id="236" name="Лента лицом вниз 5" descr=""/>
            <p:cNvPicPr/>
            <p:nvPr/>
          </p:nvPicPr>
          <p:blipFill>
            <a:blip r:embed="rId1"/>
            <a:stretch/>
          </p:blipFill>
          <p:spPr>
            <a:xfrm>
              <a:off x="1901880" y="3591000"/>
              <a:ext cx="625464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836200">
              <a:off x="3522600" y="4448160"/>
              <a:ext cx="30909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5-конечная звезда 3"/>
          <p:cNvGrpSpPr/>
          <p:nvPr/>
        </p:nvGrpSpPr>
        <p:grpSpPr>
          <a:xfrm>
            <a:off x="1700280" y="3670200"/>
            <a:ext cx="2189160" cy="2279880"/>
            <a:chOff x="1700280" y="3670200"/>
            <a:chExt cx="2189160" cy="2279880"/>
          </a:xfrm>
        </p:grpSpPr>
        <p:pic>
          <p:nvPicPr>
            <p:cNvPr id="239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1700280" y="3670200"/>
              <a:ext cx="2189160" cy="22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rot="20506200">
              <a:off x="2560680" y="4519080"/>
              <a:ext cx="66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2-19T09:39:28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